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D2CB-F484-4031-BB92-014B0FF7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CA1E-60D0-44A9-93F9-2BC498343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26D0-E403-4472-BDB9-F51ABCF99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EC9-3A44-4566-929A-6A184B45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DE4-0C25-4A29-A658-6D040F8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0FD-447F-4762-BC94-9328FBB2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84F-B4B8-40AD-AD06-E5C8278F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3A5-1AB6-4D13-87DA-946AD909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003-5B54-46E4-8E15-BCD3E10D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CB9-6E79-43D8-A5FF-C75AC34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61F-3E2B-43DE-B361-0D6FAF23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F85-27BC-45B6-B5F5-1B2EE598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6E7-5336-4D6F-8C3F-AACCE565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C49-D195-4417-B6FD-3C82909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B95-1C80-41FC-BD64-300E038A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94D3-1A2F-4D0C-B7DC-9AB47AF11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ONS 15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4-X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O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HD-EXT-P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cl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05320" y="3497400"/>
            <a:ext cx="3333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BG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C-CWDM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0040" y="3546360"/>
            <a:ext cx="58392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9:49Z</dcterms:modified>
  <cp:revision>5</cp:revision>
  <dc:subject/>
  <dc:title>Slide 1</dc:title>
</cp:coreProperties>
</file>